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36D-F63C-4332-B5E9-18A6A3F6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F95-4369-4B4C-94E5-E71DBF94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E75-EAE1-4893-BC7A-D422ACD4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A7E-0A2A-45BE-B920-3FC8C448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5A21-5A2B-4952-BA90-3F9E828C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0424-70C8-4C02-B4BB-18B4A79B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B853-161F-4342-80C2-A2441B7E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BD32-4677-42D2-9B1F-7BA87637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F8C7-7209-40D4-A58E-13E70977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654A-B819-40B6-AB3C-096651F4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9788-B497-4D30-AD49-E23EF305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B27-63B9-412C-84AC-3A90FAD3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F378-C12E-4F5A-8AE2-59A17FBD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F614-7E2F-4F1F-AF88-D42F556B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F381-45EB-47F4-8D72-5980BC7A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4F85-72A0-4FE0-A337-F617E74C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6C4D-DD6B-4040-B0B5-B0AA85C8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5F3-9F1C-42EC-BC25-2AD9D3ED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77B-A235-4F28-A89B-6348DFDC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34E-D65E-42EF-A3D2-F51DC570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CB2-9620-4207-AE70-3AF0EA99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7B1-0E0E-41C4-AF8D-303B9953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9FB-CD3F-46E6-92F5-8AC433C3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C615-B08F-4975-B11F-0BAEFA73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5D29C-E72E-4E79-873C-F3517A261D7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87088-5675-4231-B7CD-09E6B3E4405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22DE0-E870-4B93-BB88-093D9E3CFEA8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3E217-FAF0-493A-A261-0FDE9ADAF1E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jAUm_0wf9s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youtube.com/watch?v=FHYXaNhGL0o&amp;feature=related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78880" cy="2060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By: Amber Care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ter contamin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equence of mining coal and miner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used from iron sulfides reacting to air and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s sulfuric acid and dissolved ir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705120" y="0"/>
            <a:ext cx="5340600" cy="6705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28240" y="1730160"/>
            <a:ext cx="84582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cipitate form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ored sedi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id runoff dissolv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ther heavy metal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o the ground an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re impacts on fish, plants and other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bodies of water affected by AMD have a pH of 4 or less. (Similar to battery aci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have severe effects on humans as we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youtube.com/watch?v=bjAUm_0wf9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4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590920" y="2475000"/>
            <a:ext cx="6553080" cy="4383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834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6368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/3 of impacted waters are in P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e of two most heavily mined states in the Appalachia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ck of limestone formation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youtube.com/watch?v=FHYXaNhGL0o&amp;feature=rel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9" name="Susquehanna" descr=""/>
          <p:cNvPicPr/>
          <p:nvPr/>
        </p:nvPicPr>
        <p:blipFill>
          <a:blip r:embed="rId3"/>
          <a:stretch/>
        </p:blipFill>
        <p:spPr>
          <a:xfrm>
            <a:off x="3429000" y="2289240"/>
            <a:ext cx="57150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revention and Remedies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version ditches and pip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izing acidity with chemicals such as ammo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mestone is a natural neutraliz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ilding of wetla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cid Mine Drainage-http://www.cee.vt.edu/ewr/environmental/teach/gwprimer/acidmine/acidmine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arthworks-http://www.earthworksaction.org/amd.cf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Sources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7:52:49Z</dcterms:created>
  <dc:creator>PA Department of Education Classrooms for the Future</dc:creator>
  <dc:description/>
  <dc:language>en-US</dc:language>
  <cp:lastModifiedBy>Amber</cp:lastModifiedBy>
  <dcterms:modified xsi:type="dcterms:W3CDTF">2011-02-23T01:14:16Z</dcterms:modified>
  <cp:revision>6</cp:revision>
  <dc:subject/>
  <dc:title>Acid Mine Drainage</dc:title>
</cp:coreProperties>
</file>